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25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131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4039920" y="0"/>
            <a:ext cx="3090600" cy="471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11040" y="706320"/>
            <a:ext cx="4709880" cy="353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945280"/>
            <a:ext cx="3090960" cy="471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4039920" y="8945280"/>
            <a:ext cx="3090600" cy="471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E1A0D1F-9D30-40C6-A917-58F54DADC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EA7D135-49CC-4066-94BD-465B75408F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3288773-CDEB-4ED4-A742-064DB9F6C2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078A9C4-0FE5-45A0-90A5-548192B77A4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6B7E8C4-8682-4DD4-9889-C360AE190D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BF23504-76E9-4F0C-8465-9ECF2C815D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D108EDE-D014-41F9-861A-105691CA51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AB24FD0-2DB8-46DD-922A-A556005C52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5F1F66C-66C5-4728-AB75-53A0CECA509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1F9EF35-B24D-451B-9E1B-F9D1117F121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4D2819D5-DBEB-47C7-8DD3-92CCC24CEF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A261109-7F4E-42C4-8C3B-12C30DA3C2E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C9A6A6D-A49A-4742-BD4F-6AFAED9B33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E90EC94-E9CC-41FD-9FC1-0F2CFA8BDC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CE377E4-8612-4C44-9EED-18BF6E34AD9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EE5D204-F721-4899-8679-40148551C9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4C766BE-CBD3-47B0-931D-B1CE1A8B91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84084B7-69DE-44AC-8F50-B665BD5B27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32BAE502-DD11-485F-8F28-613016FE0F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5F4FDE5-F104-4B33-979A-3FBF03372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1AF71ED-4A2A-4A56-9876-BBB44524DD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AE74CB2-0450-4EFF-B558-E486E85A4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3EB9739-89EC-4122-8637-A6D3CC0BB36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608ABFE-2329-40D4-A27D-B33AE18BB8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88EE0D4F-7BB3-4DD8-893F-ED970AB697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EB8803A0-8D07-49B5-90E9-178B81E9B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9052769-6611-4462-8079-7535E68FD7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4B5A8B3-D007-4A10-B34C-EB3A8345E2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095E5EB7-F88A-4613-8901-3254A82709D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65FB819-01EC-4D70-8468-8A77934F4A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36D41ED-6AE5-47F2-9772-BCBE5272FF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5AFB013-DC1B-4464-9697-FC15BF0185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B57D5676-306E-498F-B107-CE7FFF4F37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AD077E82-2CFE-4B42-BE93-2DB0846345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C42EBA56-8954-4834-8B5B-485C20731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197D285D-9504-4912-AC0C-E0AB180AAB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6F90A7C0-520D-4624-BFCF-64AE6865EF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524B3E3-3349-4591-9B93-C7D0E3411E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0E9322F-27FD-43C1-BC2A-0EE31FB7AC0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FCC308A0-F1CF-498D-83E0-42D62E8B6F6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D6B2445-BE1E-42BC-9008-D478427B5B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A1C7-B6AE-474D-8AA4-162152770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3889-498D-49E2-8444-44A6ED4E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CBA-C590-46E8-AED5-F1513E216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F97-97D9-409F-95AB-EE3A13ED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C7940-6DA3-4B6F-A47C-0BEAB676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1CA8-C671-488F-97F5-68335EDF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812D-1400-42D9-89B5-5EC8D0720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24856-E7EB-475D-8BC1-A97F5FC3F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EC2B-C601-411F-90B2-F464AEB3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2C6A-8402-4FEB-99AD-A6912F14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981F-76EC-4B8F-BE50-774D3020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D30E-B28A-40C2-B73D-0FC0B74C6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4109-F3FA-4F7F-AAA9-3991FDDA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B3BF-D1C8-45E1-A47F-C95F32248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D5676-50D7-47D0-B8A5-20E139ED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49CC-2431-4EC8-9DBA-36A76E39E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3EF7-D4F3-4C8B-9D0F-E18C609A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8E9-5E0F-4C7B-8C92-E2F54D6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EB8-B3A8-4CAF-B00F-3D021108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2BA2-F106-47EC-8933-708DB49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66A-337E-4CAF-8A49-FD2C505C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8152-9DA8-45D0-87A8-267BD9ABD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483C-1DC5-4F73-A2B7-90F10152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BEB-20BE-4493-8D94-3B9B987B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36B2-500F-48E5-96CF-3D8628970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65DE-6023-47CF-B850-F4A9CCF724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Content Placeholder 3" descr="germs.jpg"/>
          <p:cNvPicPr/>
          <p:nvPr/>
        </p:nvPicPr>
        <p:blipFill>
          <a:blip r:embed="rId1"/>
          <a:srcRect l="-44247" t="0" r="-44247" b="0"/>
          <a:stretch/>
        </p:blipFill>
        <p:spPr>
          <a:xfrm>
            <a:off x="-762120" y="2286000"/>
            <a:ext cx="7419960" cy="3962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bacteria cartoon.jpg"/>
          <p:cNvPicPr/>
          <p:nvPr/>
        </p:nvPicPr>
        <p:blipFill>
          <a:blip r:embed="rId2"/>
          <a:stretch/>
        </p:blipFill>
        <p:spPr>
          <a:xfrm>
            <a:off x="5029200" y="1905120"/>
            <a:ext cx="3314880" cy="2450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bacteria.jpg"/>
          <p:cNvPicPr/>
          <p:nvPr/>
        </p:nvPicPr>
        <p:blipFill>
          <a:blip r:embed="rId3"/>
          <a:stretch/>
        </p:blipFill>
        <p:spPr>
          <a:xfrm>
            <a:off x="5105520" y="4495680"/>
            <a:ext cx="3429000" cy="21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6320" y="10663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ucture of Bacterial Ce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nuclear area (D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ribos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cell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caps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pili (attach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flagellum  (mv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Prokaryotic Cell Structure"/>
          <p:cNvPicPr/>
          <p:nvPr/>
        </p:nvPicPr>
        <p:blipFill>
          <a:blip r:embed="rId1"/>
          <a:stretch/>
        </p:blipFill>
        <p:spPr>
          <a:xfrm>
            <a:off x="914400" y="1828800"/>
            <a:ext cx="4237200" cy="485784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057040" y="1218960"/>
            <a:ext cx="6095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g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brations as H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 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mp into th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600200" y="2133720"/>
            <a:ext cx="67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microbiologybytes.com/video/motilit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Repro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 to full size and divide in 30 minu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is usually limited to availability of resourc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ly reproduce by simple binary fiss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rates vary depending on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Asexual Rep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mosome replica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ughter chromosomes sepa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sma membrane in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s sepa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binfission"/>
          <p:cNvPicPr/>
          <p:nvPr/>
        </p:nvPicPr>
        <p:blipFill>
          <a:blip r:embed="rId1"/>
          <a:stretch/>
        </p:blipFill>
        <p:spPr>
          <a:xfrm>
            <a:off x="1843200" y="0"/>
            <a:ext cx="55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Nutr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terotrop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parasi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saprophy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troph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photosyn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hemosynthet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Photo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ochlorophy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purple, red, brow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from hydrogen sulfide not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xygen is not a 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itions of Bacterial Grow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istur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 5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1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 –  9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 (38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tral p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 sour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ht (if photosynthetic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142640" y="1218960"/>
            <a:ext cx="70102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l Surv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Endospor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protective cover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nucle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d metabo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2640" y="1219320"/>
            <a:ext cx="76201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tic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onjugat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NA passes fro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bacteria to another thru a pilu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Transformation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 bacterial absor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NA from environ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000"/>
                </a:solidFill>
                <a:uFillTx/>
                <a:latin typeface="Arial"/>
              </a:rPr>
              <a:t>Transduction</a:t>
            </a: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: bacteriophage transfers genetic materia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ecomposer organism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nzymes to brea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 organic subst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143000" y="3962520"/>
            <a:ext cx="6934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Microbiologi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ies microb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Conjug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Content Placeholder 3" descr="C0070793-Bacterial_conjugation,_artwork-SPL.jpg"/>
          <p:cNvPicPr/>
          <p:nvPr/>
        </p:nvPicPr>
        <p:blipFill>
          <a:blip r:embed="rId1"/>
          <a:srcRect l="-63016" t="0" r="-63016" b="0"/>
          <a:stretch/>
        </p:blipFill>
        <p:spPr>
          <a:xfrm>
            <a:off x="-617400" y="1905120"/>
            <a:ext cx="9462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Transform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Content Placeholder 5" descr="transformation.jpg"/>
          <p:cNvPicPr/>
          <p:nvPr/>
        </p:nvPicPr>
        <p:blipFill>
          <a:blip r:embed="rId1"/>
          <a:srcRect l="-65323" t="0" r="-65323" b="0"/>
          <a:stretch/>
        </p:blipFill>
        <p:spPr>
          <a:xfrm>
            <a:off x="-762120" y="1371600"/>
            <a:ext cx="10482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Transdu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Content Placeholder 3" descr="Bacterial-Transduction.jpg"/>
          <p:cNvPicPr/>
          <p:nvPr/>
        </p:nvPicPr>
        <p:blipFill>
          <a:blip r:embed="rId1"/>
          <a:srcRect l="-4778" t="0" r="-4778" b="0"/>
          <a:stretch/>
        </p:blipFill>
        <p:spPr>
          <a:xfrm>
            <a:off x="-173160" y="1752480"/>
            <a:ext cx="93171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ycopla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 cell w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ous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e in specific solute concentra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pneumo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arthr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urinary tract inf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4" descr="&lt;i&gt;Mycoplasma&lt;/i&gt; sp. Non-cell walled bacterium"/>
          <p:cNvPicPr/>
          <p:nvPr/>
        </p:nvPicPr>
        <p:blipFill>
          <a:blip r:embed="rId1"/>
          <a:stretch/>
        </p:blipFill>
        <p:spPr>
          <a:xfrm>
            <a:off x="914400" y="4038480"/>
            <a:ext cx="3495600" cy="26193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cketts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acellular para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cel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herical or rod shap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typhus fe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Rocky Mt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ted fev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4" descr="AIDS10bb_lores"/>
          <p:cNvPicPr/>
          <p:nvPr/>
        </p:nvPicPr>
        <p:blipFill>
          <a:blip r:embed="rId1"/>
          <a:stretch/>
        </p:blipFill>
        <p:spPr>
          <a:xfrm>
            <a:off x="838080" y="3678120"/>
            <a:ext cx="4191120" cy="39988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Picture- Late (petechial) rash on palm of hand and forearm"/>
          <p:cNvPicPr/>
          <p:nvPr/>
        </p:nvPicPr>
        <p:blipFill>
          <a:blip r:embed="rId2"/>
          <a:stretch/>
        </p:blipFill>
        <p:spPr>
          <a:xfrm>
            <a:off x="6095880" y="1847880"/>
            <a:ext cx="2362320" cy="18097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7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och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 or corkscrew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ree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ve in digestive or repro 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e 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treponemapal"/>
          <p:cNvPicPr/>
          <p:nvPr/>
        </p:nvPicPr>
        <p:blipFill>
          <a:blip r:embed="rId1"/>
          <a:stretch/>
        </p:blipFill>
        <p:spPr>
          <a:xfrm>
            <a:off x="838080" y="3581280"/>
            <a:ext cx="2246400" cy="56293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10" descr="Bullseye_Lyme_Disease_Rash"/>
          <p:cNvPicPr/>
          <p:nvPr/>
        </p:nvPicPr>
        <p:blipFill>
          <a:blip r:embed="rId2"/>
          <a:stretch/>
        </p:blipFill>
        <p:spPr>
          <a:xfrm>
            <a:off x="6513480" y="3352680"/>
            <a:ext cx="2630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oche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nt or corkscrew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free li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live in digestive or repro tr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s: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me diseas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syphi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aws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treponemapal"/>
          <p:cNvPicPr/>
          <p:nvPr/>
        </p:nvPicPr>
        <p:blipFill>
          <a:blip r:embed="rId1"/>
          <a:stretch/>
        </p:blipFill>
        <p:spPr>
          <a:xfrm>
            <a:off x="838080" y="3581280"/>
            <a:ext cx="2246400" cy="56293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2431Yaws_wrist"/>
          <p:cNvPicPr/>
          <p:nvPr/>
        </p:nvPicPr>
        <p:blipFill>
          <a:blip r:embed="rId2"/>
          <a:stretch/>
        </p:blipFill>
        <p:spPr>
          <a:xfrm>
            <a:off x="6477120" y="4842000"/>
            <a:ext cx="2438280" cy="1874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7"/>
          <p:cNvSpPr/>
          <p:nvPr/>
        </p:nvSpPr>
        <p:spPr>
          <a:xfrm>
            <a:off x="1447920" y="15228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mitri Iwanowsk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ed with T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us” meaning poison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. Wendell Stanle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olated th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MV virus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tobamo1"/>
          <p:cNvPicPr/>
          <p:nvPr/>
        </p:nvPicPr>
        <p:blipFill>
          <a:blip r:embed="rId1"/>
          <a:stretch/>
        </p:blipFill>
        <p:spPr>
          <a:xfrm>
            <a:off x="5486400" y="1752480"/>
            <a:ext cx="3333600" cy="2419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fig01"/>
          <p:cNvPicPr/>
          <p:nvPr/>
        </p:nvPicPr>
        <p:blipFill>
          <a:blip r:embed="rId2"/>
          <a:stretch/>
        </p:blipFill>
        <p:spPr>
          <a:xfrm>
            <a:off x="5029200" y="4114800"/>
            <a:ext cx="4114800" cy="27432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8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6108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 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) Nucleic acid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(DNA or RNA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2) Protein Coa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examples_of_viruses"/>
          <p:cNvPicPr/>
          <p:nvPr/>
        </p:nvPicPr>
        <p:blipFill>
          <a:blip r:embed="rId1"/>
          <a:stretch/>
        </p:blipFill>
        <p:spPr>
          <a:xfrm>
            <a:off x="411480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1N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2" descr="This preliminary negative stained transmission electron micrograph (TEM) image depicts some of the ultrastructural morphology of an H1N1 &quot;swine flu&quot; virus culture."/>
          <p:cNvPicPr/>
          <p:nvPr/>
        </p:nvPicPr>
        <p:blipFill>
          <a:blip r:embed="rId1"/>
          <a:stretch/>
        </p:blipFill>
        <p:spPr>
          <a:xfrm>
            <a:off x="685800" y="1219320"/>
            <a:ext cx="8153280" cy="52606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Swine flu microscope "/>
          <p:cNvPicPr/>
          <p:nvPr/>
        </p:nvPicPr>
        <p:blipFill>
          <a:blip r:embed="rId2"/>
          <a:stretch/>
        </p:blipFill>
        <p:spPr>
          <a:xfrm>
            <a:off x="177840" y="12193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   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A JOB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ic (disease caus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bacteria are decomposers, they eat dead thing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human flora in the digestive tract, oral cavity, skin, and other are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Bacteriophage: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irus that infects bact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8" descr="T4 Bacteriophage"/>
          <p:cNvPicPr/>
          <p:nvPr/>
        </p:nvPicPr>
        <p:blipFill>
          <a:blip r:embed="rId1"/>
          <a:stretch/>
        </p:blipFill>
        <p:spPr>
          <a:xfrm>
            <a:off x="1523880" y="2286000"/>
            <a:ext cx="5943600" cy="434196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12"/>
          <p:cNvSpPr/>
          <p:nvPr/>
        </p:nvSpPr>
        <p:spPr>
          <a:xfrm>
            <a:off x="1447920" y="457200"/>
            <a:ext cx="6553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Vir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  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teriophage pictur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87" name="Content Placeholder 3" descr="20070207_virus.jpg"/>
          <p:cNvPicPr/>
          <p:nvPr/>
        </p:nvPicPr>
        <p:blipFill>
          <a:blip r:embed="rId1"/>
          <a:srcRect l="-52341" t="0" r="-52341" b="0"/>
          <a:stretch/>
        </p:blipFill>
        <p:spPr>
          <a:xfrm>
            <a:off x="-152280" y="1905120"/>
            <a:ext cx="9462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520" y="1522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tic Cycle &amp; Lysogenic Cyc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6" descr="Lytic and Lysogenic Cycles of a Bacteriophage"/>
          <p:cNvPicPr/>
          <p:nvPr/>
        </p:nvPicPr>
        <p:blipFill>
          <a:blip r:embed="rId1"/>
          <a:stretch/>
        </p:blipFill>
        <p:spPr>
          <a:xfrm>
            <a:off x="533520" y="242568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es &amp; injures cell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Lytic and Lysogenic Cycles of a Bacteriophage"/>
          <p:cNvPicPr/>
          <p:nvPr/>
        </p:nvPicPr>
        <p:blipFill>
          <a:blip r:embed="rId1"/>
          <a:stretch/>
        </p:blipFill>
        <p:spPr>
          <a:xfrm>
            <a:off x="533520" y="242568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ytic and Lysogenic cyc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93" name="Content Placeholder 3" descr="8lytic.jpg"/>
          <p:cNvPicPr/>
          <p:nvPr/>
        </p:nvPicPr>
        <p:blipFill>
          <a:blip r:embed="rId1"/>
          <a:srcRect l="-16672" t="0" r="-16672" b="0"/>
          <a:stretch/>
        </p:blipFill>
        <p:spPr>
          <a:xfrm>
            <a:off x="-318960" y="1752480"/>
            <a:ext cx="9462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es &amp; injures cells immediat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S Vir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dding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um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ood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6" descr="HIV, the virus that causes AIDS, is shown budding out of a human immune cell."/>
          <p:cNvPicPr/>
          <p:nvPr/>
        </p:nvPicPr>
        <p:blipFill>
          <a:blip r:embed="rId1"/>
          <a:stretch/>
        </p:blipFill>
        <p:spPr>
          <a:xfrm>
            <a:off x="5181480" y="2376360"/>
            <a:ext cx="3219480" cy="43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ains inactive for long periods o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tent vir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Lytic and Lysogenic Cycles of a Bacteriophage"/>
          <p:cNvPicPr/>
          <p:nvPr/>
        </p:nvPicPr>
        <p:blipFill>
          <a:blip r:embed="rId1"/>
          <a:stretch/>
        </p:blipFill>
        <p:spPr>
          <a:xfrm>
            <a:off x="533520" y="2425680"/>
            <a:ext cx="82296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81536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iseases &amp; Disorder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fectious disea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d by a 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5" dur="8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762120" y="-7632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incubation perio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between contracting the dis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coming down with symp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CORTI-INCUBATOR-50"/>
          <p:cNvPicPr/>
          <p:nvPr/>
        </p:nvPicPr>
        <p:blipFill>
          <a:blip r:embed="rId1"/>
          <a:stretch/>
        </p:blipFill>
        <p:spPr>
          <a:xfrm>
            <a:off x="2971800" y="3276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3520" y="6094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Communicable Diseas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spread from person to per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dropl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ontac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contam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wound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insect vecto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mechanically or by bit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immune carriers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5" descr="flea"/>
          <p:cNvPicPr/>
          <p:nvPr/>
        </p:nvPicPr>
        <p:blipFill>
          <a:blip r:embed="rId1"/>
          <a:stretch/>
        </p:blipFill>
        <p:spPr>
          <a:xfrm>
            <a:off x="5638680" y="2514600"/>
            <a:ext cx="259092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8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7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8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8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1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8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38080" y="11430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omains: Bacteria &amp; Arch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doms: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 &amp;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rcha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m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karyo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rchea is Differen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can live in extreme pl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) do NOT have peptidoglyc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) a little like eukaryotic cel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Portrait of Mary"/>
          <p:cNvPicPr/>
          <p:nvPr/>
        </p:nvPicPr>
        <p:blipFill>
          <a:blip r:embed="rId1"/>
          <a:stretch/>
        </p:blipFill>
        <p:spPr>
          <a:xfrm>
            <a:off x="2438280" y="914400"/>
            <a:ext cx="3735360" cy="39625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819520" y="533412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y Mal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hoid 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4"/>
          <p:cNvSpPr/>
          <p:nvPr/>
        </p:nvSpPr>
        <p:spPr>
          <a:xfrm>
            <a:off x="451440" y="1219320"/>
            <a:ext cx="825408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240" rIns="9000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n With TB Locked Up To Protect Publ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uberculosis Pati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ined To Arizona Jail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8" descr="Tuberculosis patient Robert Daniels in his hospital room on the jail ward of the Maricopa Medical Center on July 12, 2007 (Photo Credit: Rene Gutel). "/>
          <p:cNvPicPr/>
          <p:nvPr/>
        </p:nvPicPr>
        <p:blipFill>
          <a:blip r:embed="rId1"/>
          <a:stretch/>
        </p:blipFill>
        <p:spPr>
          <a:xfrm>
            <a:off x="2209680" y="3048120"/>
            <a:ext cx="473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viral diseas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bo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patitis A, B, C,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r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onucle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m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llow 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ajor viral diseas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cken pox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b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st N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you stop virus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ither by vaccines or antiviral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activated vaccines – dead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d vaccine – altered live vir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ow do you stop virus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viral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ferons – stop protein production for viral re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ase Inhibitors – stop protei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sion inhibitors – blocks virus from entering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610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s effect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Tissue destr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Toxin 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           ex: tetanus &amp; botulis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ffc000"/>
                </a:solidFill>
                <a:uFillTx/>
                <a:latin typeface="Arial"/>
              </a:rPr>
              <a:t>endotoxins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c000"/>
                </a:solidFill>
                <a:latin typeface="Arial"/>
              </a:rPr>
              <a:t>     ex: bubonic plag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8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8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838080" y="1217880"/>
            <a:ext cx="784872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uctural Defenses:  1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ine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n &amp;Mucous membr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* Tears (lysozym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0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14400" y="1254960"/>
            <a:ext cx="769608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ellular Defenses: 2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line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gocytic cells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lam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ymphatic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914400" y="1217880"/>
            <a:ext cx="7696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pecific Defens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  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ine of defen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e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bo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rchaebacteria Kingdo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peptidoglycan in the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s resemble Eukaryotic DNA with the presence of histone prote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are Thermoacidophiles (high temp or highly acid soils), methanogens (methane producers), halophiles (salt-lover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against Diseas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838080" y="1862280"/>
            <a:ext cx="784872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ocidal chemic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ill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antibodies, antibiotics 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icillin &amp; streptomyc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against Dis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838080" y="1420920"/>
            <a:ext cx="8305920" cy="59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tibiotics work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interfering with bacterial metabo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disrupting cell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) interfering with protein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) inhibiting RNA synthe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1532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ense against Diseases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914400" y="2285640"/>
            <a:ext cx="70866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acteriostatic chemical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multiplication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: sulfa drug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990360" y="5331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o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ctious strand of circular R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533520" y="3884400"/>
            <a:ext cx="7924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6553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  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33160" y="45684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bnormal form of a prote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es mad cow disease &amp; scrap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762120" y="4265640"/>
            <a:ext cx="79246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http://www.madcowblog.com/uploads/image/madcow.jpg"/>
          <p:cNvPicPr/>
          <p:nvPr/>
        </p:nvPicPr>
        <p:blipFill>
          <a:blip r:embed="rId1"/>
          <a:stretch/>
        </p:blipFill>
        <p:spPr>
          <a:xfrm>
            <a:off x="4267080" y="4000680"/>
            <a:ext cx="447696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Koch’s Postulat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s to identify pathoge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n only in sick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n in l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jected into healthy subject and see if they get the disease (experiment with m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e the pathogens from the one found and the one injected to see if they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37720" y="1218960"/>
            <a:ext cx="8153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No image for monera? Refresh the page"/>
          <p:cNvPicPr/>
          <p:nvPr/>
        </p:nvPicPr>
        <p:blipFill>
          <a:blip r:embed="rId1"/>
          <a:stretch/>
        </p:blipFill>
        <p:spPr>
          <a:xfrm>
            <a:off x="2438280" y="1219320"/>
            <a:ext cx="463572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ubacteria Classification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bacteria are classified by their shape and by Gram s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am stain is a process to determine the amount of peptidoglycan in the cell wall and the bacteria is separated by how it sta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sha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ccus = 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phlococc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aur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4" descr="92589a"/>
          <p:cNvPicPr/>
          <p:nvPr/>
        </p:nvPicPr>
        <p:blipFill>
          <a:blip r:embed="rId1"/>
          <a:stretch/>
        </p:blipFill>
        <p:spPr>
          <a:xfrm>
            <a:off x="4038480" y="2819520"/>
            <a:ext cx="4762800" cy="38098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8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sha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illus = rod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shrich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ol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empseudo"/>
          <p:cNvPicPr/>
          <p:nvPr/>
        </p:nvPicPr>
        <p:blipFill>
          <a:blip r:embed="rId1"/>
          <a:stretch/>
        </p:blipFill>
        <p:spPr>
          <a:xfrm>
            <a:off x="4114800" y="3124080"/>
            <a:ext cx="4724280" cy="34261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1143000" y="12189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shapes of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irillum = spiral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Leptospir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nterrog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5" descr="emlepto"/>
          <p:cNvPicPr/>
          <p:nvPr/>
        </p:nvPicPr>
        <p:blipFill>
          <a:blip r:embed="rId1"/>
          <a:stretch/>
        </p:blipFill>
        <p:spPr>
          <a:xfrm>
            <a:off x="3657600" y="3049560"/>
            <a:ext cx="5257800" cy="3483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8"/>
          <p:cNvSpPr/>
          <p:nvPr/>
        </p:nvSpPr>
        <p:spPr>
          <a:xfrm>
            <a:off x="1295280" y="304920"/>
            <a:ext cx="65534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9T10:54:25Z</dcterms:created>
  <dc:creator>Peni Hirt</dc:creator>
  <dc:description/>
  <dc:language>en-US</dc:language>
  <cp:lastModifiedBy>Jason Cobb</cp:lastModifiedBy>
  <dcterms:modified xsi:type="dcterms:W3CDTF">2012-03-09T11:41:59Z</dcterms:modified>
  <cp:revision>261</cp:revision>
  <dc:subject/>
  <dc:title>Ch. 9 The Kingdom Monera &amp; Viruses</dc:title>
</cp:coreProperties>
</file>